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D95-97E0-4C8C-BBFB-424544BB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917-7BE6-4D7E-BAC1-D4B4C06E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2BC-5118-4D10-AA38-90DD6590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FCD6-9F4F-4CE5-81B4-01A3D127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D419-132F-4BE7-AD94-6756705F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A09-F8DE-4094-9B20-C19B50D3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470-C0CF-45D1-A9BF-D760A59D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A7E1-EF78-4AA5-9A82-483515A6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176-9BB8-432B-8627-9138BB7B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30F-AF45-4571-A83E-376938A0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F1A-926E-4BC9-AD89-BD32FA9D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14A-9BB4-486D-A4C4-6AAD7E6F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91D5-51CB-4ACC-B65E-6E5ABC911C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ien invaders on the 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s by: Google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by: Ben and Mich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pZap speedy cryptons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speeding trough cryptonon. collecting pieces of technology*.BBooom retreat were getting bombed. We've found the special ship* were turning on the exhaust pipes and engines*.were getting out of he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images"/>
          <p:cNvPicPr/>
          <p:nvPr/>
        </p:nvPicPr>
        <p:blipFill>
          <a:blip r:embed="rId1"/>
          <a:stretch/>
        </p:blipFill>
        <p:spPr>
          <a:xfrm>
            <a:off x="4716360" y="1197000"/>
            <a:ext cx="4103640" cy="2381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imgres"/>
          <p:cNvPicPr/>
          <p:nvPr/>
        </p:nvPicPr>
        <p:blipFill>
          <a:blip r:embed="rId2"/>
          <a:stretch/>
        </p:blipFill>
        <p:spPr>
          <a:xfrm>
            <a:off x="4572000" y="3789360"/>
            <a:ext cx="417672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Grything ali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e can see the planet green and big. We see ufo’s everywhere*.prepare the battle gear* Michael put up the phasor guns and get the reflector shield up were going in *.bang boom bong ping pong pang p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imagesCAF0BN5K"/>
          <p:cNvPicPr/>
          <p:nvPr/>
        </p:nvPicPr>
        <p:blipFill>
          <a:blip r:embed="rId1"/>
          <a:stretch/>
        </p:blipFill>
        <p:spPr>
          <a:xfrm>
            <a:off x="4643280" y="1413000"/>
            <a:ext cx="4032360" cy="237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imagesCALT9RKU"/>
          <p:cNvPicPr/>
          <p:nvPr/>
        </p:nvPicPr>
        <p:blipFill>
          <a:blip r:embed="rId2"/>
          <a:stretch/>
        </p:blipFill>
        <p:spPr>
          <a:xfrm>
            <a:off x="4643280" y="3789360"/>
            <a:ext cx="4032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liens who eat ali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* Yellow aliens lurking everywhere on planet zurkon. Everywhere we mean everywhere*. Get out our guns to survive. Alright  I got a shotgun* I machine gun oh yeah oh yeah lets get out of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Content Placeholder 9" descr="images (1).jpg"/>
          <p:cNvPicPr/>
          <p:nvPr/>
        </p:nvPicPr>
        <p:blipFill>
          <a:blip r:embed="rId1"/>
          <a:stretch/>
        </p:blipFill>
        <p:spPr>
          <a:xfrm>
            <a:off x="4932360" y="1484280"/>
            <a:ext cx="3168720" cy="23050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10" descr="images.jpg"/>
          <p:cNvPicPr/>
          <p:nvPr/>
        </p:nvPicPr>
        <p:blipFill>
          <a:blip r:embed="rId2"/>
          <a:stretch/>
        </p:blipFill>
        <p:spPr>
          <a:xfrm>
            <a:off x="4932360" y="3933720"/>
            <a:ext cx="31687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uman kind vs. alien cr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*smashing through their alien defence line. Zapping the humans kind as the metal pieces fly everywhere* were making progress on the aliens work defences*.BBooom something explodes in the middle of the battle* the aliens are running away victory to humans *.this very day aliens are re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imagesCAS2RQXA"/>
          <p:cNvPicPr/>
          <p:nvPr/>
        </p:nvPicPr>
        <p:blipFill>
          <a:blip r:embed="rId1"/>
          <a:stretch/>
        </p:blipFill>
        <p:spPr>
          <a:xfrm>
            <a:off x="4643280" y="1413000"/>
            <a:ext cx="4032360" cy="237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magesCA2AL9Y3"/>
          <p:cNvPicPr/>
          <p:nvPr/>
        </p:nvPicPr>
        <p:blipFill>
          <a:blip r:embed="rId2"/>
          <a:stretch/>
        </p:blipFill>
        <p:spPr>
          <a:xfrm>
            <a:off x="4643280" y="3789360"/>
            <a:ext cx="4032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22:55:50Z</dcterms:created>
  <dc:creator>Samuel</dc:creator>
  <dc:description/>
  <dc:language>en-US</dc:language>
  <cp:lastModifiedBy>Samuel</cp:lastModifiedBy>
  <dcterms:modified xsi:type="dcterms:W3CDTF">2012-09-20T21:51:34Z</dcterms:modified>
  <cp:revision>12</cp:revision>
  <dc:subject/>
  <dc:title>Alien invaders on the move</dc:title>
</cp:coreProperties>
</file>